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8B0-B630-48A7-B10D-5360C15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92E-0634-43D9-AEC6-5C62D5D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295-5CD0-4B2F-A990-A62F6375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24D-35BB-4B1D-9F87-8993B99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34E6-AA0F-448B-8D2C-6220ED28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9C3-DC8B-4400-BAF6-BE7EFDC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BFB2-9FFC-41EF-A10E-254CA45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173-936B-41DA-A0FB-2DD518B3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4BAA-4AFA-429D-A7A7-2C74A537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DA99-C224-43B2-8022-E2447AAC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40B9-03C7-4AF2-B44D-C52AF235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202-8E49-4B23-98F3-97E2FCF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200-5B42-4269-9398-B169574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755-A76F-4C4C-98A5-D925A1A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DE4-5052-42BB-B218-0B8272B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2069-73C8-4035-A8BF-EA970249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D26E-3AC6-4890-A488-2EBCE8AA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5E44-4B6B-41B4-B7A1-40983C9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3532-9069-4CC7-B035-DE1318C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CD5E-EC3C-4C86-86A7-34213C3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3D3F-1256-4F2E-9989-C8B92E3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9A8E-2F1B-4634-AD8F-E8735B1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FBA-E058-42EE-8568-813EBAA6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4234-85B6-4441-A044-73E3180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EA80-3532-4497-8F58-DBB4549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F858-BF4E-478D-8630-2FE6A93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1D5C-475E-45E4-B887-4D4D28D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9B85-021C-4A8E-A81C-0569F66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79C9-A5A3-496B-A9EC-C9AAEFED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B81B-9104-4840-A138-8BA3CB04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064-31D9-42F0-9D9B-AB53C89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104-832F-4EB7-8576-3EF6B3C1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244-07B0-4729-8B49-E758773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4BD-E9E3-4137-8064-FCE4B0F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B6C-1C33-4359-986F-3BA9AFD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A52-4873-4689-85E6-113E29D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AE9-93E4-4460-82CF-326C13D2E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B29D-A012-4734-B3C2-3583FDBCD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AAEF-6600-4991-A1F1-EAF8787D7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s://ru.wikipedia.org/wiki/&#1052;&#1072;&#1088;&#1075;&#1072;&#1085;&#1094;&#1077;&#1074;&#1086;-&#1094;&#1080;&#1085;&#1082;&#1086;&#1074;&#1099;&#1081;_&#1101;&#1083;&#1077;&#1084;&#1077;&#1085;&#1090;" TargetMode="External"/><Relationship Id="rId4" Type="http://schemas.openxmlformats.org/officeDocument/2006/relationships/hyperlink" Target="https://ru.wikipedia.org/wiki/&#1052;&#1072;&#1088;&#1075;&#1072;&#1085;&#1094;&#1077;&#1074;&#1086;-&#1086;&#1083;&#1086;&#1074;&#1103;&#1085;&#1085;&#1099;&#1081;_&#1101;&#1083;&#1077;&#1084;&#1077;&#1085;&#1090;" TargetMode="External"/><Relationship Id="rId5" Type="http://schemas.openxmlformats.org/officeDocument/2006/relationships/hyperlink" Target="https://ru.wikipedia.org/wiki/&#1052;&#1072;&#1088;&#1075;&#1072;&#1085;&#1094;&#1077;&#1074;&#1086;-&#1084;&#1072;&#1075;&#1085;&#1080;&#1077;&#1074;&#1099;&#1081;_&#1101;&#1083;&#1077;&#1084;&#1077;&#1085;&#1090;" TargetMode="External"/><Relationship Id="rId6" Type="http://schemas.openxmlformats.org/officeDocument/2006/relationships/hyperlink" Target="https://ru.wikipedia.org/wiki/&#1057;&#1074;&#1080;&#1085;&#1094;&#1086;&#1074;&#1086;-&#1094;&#1080;&#1085;&#1082;&#1086;&#1074;&#1099;&#1081;_&#1101;&#1083;&#1077;&#1084;&#1077;&#1085;&#1090;" TargetMode="External"/><Relationship Id="rId7" Type="http://schemas.openxmlformats.org/officeDocument/2006/relationships/hyperlink" Target="https://ru.wikipedia.org/wiki/&#1057;&#1074;&#1080;&#1085;&#1094;&#1086;&#1074;&#1086;-&#1082;&#1072;&#1076;&#1084;&#1080;&#1077;&#1074;&#1099;&#1081;_&#1101;&#1083;&#1077;&#1084;&#1077;&#1085;&#1090;" TargetMode="External"/><Relationship Id="rId8" Type="http://schemas.openxmlformats.org/officeDocument/2006/relationships/hyperlink" Target="https://ru.wikipedia.org/wiki/&#1057;&#1074;&#1080;&#1085;&#1094;&#1086;&#1074;&#1086;-&#1093;&#1083;&#1086;&#1088;&#1085;&#1099;&#1081;_&#1101;&#1083;&#1077;&#1084;&#1077;&#1085;&#1090;" TargetMode="External"/><Relationship Id="rId9" Type="http://schemas.openxmlformats.org/officeDocument/2006/relationships/hyperlink" Target="https://ru.wikipedia.org/wiki/&#1056;&#1090;&#1091;&#1090;&#1085;&#1086;-&#1094;&#1080;&#1085;&#1082;&#1086;&#1074;&#1099;&#1081;_&#1101;&#1083;&#1077;&#1084;&#1077;&#1085;&#1090;" TargetMode="External"/><Relationship Id="rId10" Type="http://schemas.openxmlformats.org/officeDocument/2006/relationships/hyperlink" Target="https://ru.wikipedia.org/wiki/&#1056;&#1090;&#1091;&#1090;&#1085;&#1086;-&#1082;&#1072;&#1076;&#1084;&#1080;&#1077;&#1074;&#1099;&#1081;_&#1101;&#1083;&#1077;&#1084;&#1077;&#1085;&#1090;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2133360"/>
            <a:ext cx="87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электролиты и неэлектроли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71928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"/>
          <p:cNvPicPr/>
          <p:nvPr/>
        </p:nvPicPr>
        <p:blipFill>
          <a:blip r:embed="rId3"/>
          <a:srcRect l="27891" t="16436" r="8628" b="22246"/>
          <a:stretch/>
        </p:blipFill>
        <p:spPr>
          <a:xfrm>
            <a:off x="179280" y="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Объект 2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следование свойств электроли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Исследование электролитов без звука.mp4" descr=""/>
          <p:cNvPicPr/>
          <p:nvPr/>
        </p:nvPicPr>
        <p:blipFill>
          <a:blip r:embed="rId3"/>
          <a:stretch/>
        </p:blipFill>
        <p:spPr>
          <a:xfrm>
            <a:off x="826920" y="1106640"/>
            <a:ext cx="75139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"/>
          <p:cNvPicPr/>
          <p:nvPr/>
        </p:nvPicPr>
        <p:blipFill>
          <a:blip r:embed="rId2"/>
          <a:stretch/>
        </p:blipFill>
        <p:spPr>
          <a:xfrm>
            <a:off x="34920" y="3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Подведем  итог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474840" y="1484280"/>
            <a:ext cx="832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ак, что 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соприкосновении металла и раствора на границе возникает электрическое поле. В момент образования этого поля и происходит непосредственно само превращение химической энергии в электрическую, которую и можем использ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но использовать все металлы, электролиты кислот и щелочей. Исследования показали, что на превращение оказывает влияние и концентрация раств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лагодарим Вас за внимание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685440"/>
            <a:ext cx="64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тоги работы группы хим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71928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остав групп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менева Оле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оровая Вл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ихалюк Анаста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Щурилова Екате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Жирнова Вале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ошкова Дар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мирнова Е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евой вопр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е ли вещества, взаимодействующие между собой, способны выработать энергию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действия гальванического элемента основан на взаимодействии двух металлов через электролит, приводящем к возникновению в замкнутой цепи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группы хим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4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свойств веществ, которые можно использовать в работе батар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3"/>
          <a:stretch/>
        </p:blipFill>
        <p:spPr>
          <a:xfrm>
            <a:off x="2700360" y="3141720"/>
            <a:ext cx="40132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Проведём опы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476280" y="1484280"/>
            <a:ext cx="53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отрим стеклянный сосуд, в который налита серная кислота и опущен цинковый стержень. Поскольку на поверхности пластины находятся положительно заряженные атомы цинка, то в растворе вокруг стержня собираются отрицательные ионы раствора, а положительные ионы раствора выталкиваются  не в эту область. Притяжение раствора отрывает ионы цинка, и они становятся уже частью этого раствора. В результате цинковый стержень становится отрицательно заряженным, а раствор положительно. Вот и получили разность потенци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5796000" y="1608120"/>
            <a:ext cx="2943360" cy="3168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40" name="Прямоугольник 5"/>
          <p:cNvSpPr/>
          <p:nvPr/>
        </p:nvSpPr>
        <p:spPr>
          <a:xfrm>
            <a:off x="476280" y="5084640"/>
            <a:ext cx="83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ак, что получается? При соприкосновении металла и раствора на границе возникает электрическое поле. В момент образования этого поля и происходит непосредственно само превращение химической энергии в электрическую.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аёт нам возможность её использ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237960" y="244440"/>
            <a:ext cx="84981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79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некоторых батар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1447920"/>
          <a:ext cx="8273880" cy="5076720"/>
        </p:xfrm>
        <a:graphic>
          <a:graphicData uri="http://schemas.openxmlformats.org/drawingml/2006/table">
            <a:tbl>
              <a:tblPr/>
              <a:tblGrid>
                <a:gridCol w="1654200"/>
                <a:gridCol w="1655640"/>
                <a:gridCol w="1654200"/>
                <a:gridCol w="1655640"/>
                <a:gridCol w="1654200"/>
              </a:tblGrid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Кат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Электро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Ан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Напряжение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3"/>
                        </a:rPr>
                        <a:t>Марганцево-цинко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4"/>
                        </a:rPr>
                        <a:t>Марганцево-оловянн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5"/>
                        </a:rPr>
                        <a:t>Марганцево-магние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gB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6"/>
                        </a:rPr>
                        <a:t>Свинцово-цинко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b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7"/>
                        </a:rPr>
                        <a:t>Свинцово-кадмие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b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8"/>
                        </a:rPr>
                        <a:t>Свинцово-хлорн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b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Cl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9"/>
                        </a:rPr>
                        <a:t>Ртутно-цинко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0"/>
                        </a:rPr>
                        <a:t>Ртутно-кадмие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g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Arial"/>
                        </a:rPr>
                        <a:t>Окисно-ртутно-оловянн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g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Arial"/>
                        </a:rPr>
                        <a:t>Хром-цинковый 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8—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2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3"/>
          <a:srcRect l="27732" t="21445" r="8150" b="29258"/>
          <a:stretch/>
        </p:blipFill>
        <p:spPr>
          <a:xfrm>
            <a:off x="0" y="189000"/>
            <a:ext cx="91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6:39:51Z</dcterms:created>
  <dc:creator>elena</dc:creator>
  <dc:description/>
  <dc:language>en-US</dc:language>
  <cp:lastModifiedBy>adel</cp:lastModifiedBy>
  <dcterms:modified xsi:type="dcterms:W3CDTF">2016-05-20T15:30:29Z</dcterms:modified>
  <cp:revision>31</cp:revision>
  <dc:subject/>
  <dc:title>Презентация PowerPoint</dc:title>
</cp:coreProperties>
</file>